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DF3-2AB1-4B31-B9B7-3177D978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707-4748-4DB8-A3C8-DD16DDBA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6E4-54C0-4B83-95E3-12E9DC83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CCE-63A0-4997-A7DD-039B3701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57B1-24F3-4499-BEB7-7D590B71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F441-7317-41B1-B3C1-3C1F627B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E453-E1E8-4BA6-8663-792BD6C6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7905-4530-4503-AE57-1D10CBBD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5B30-FF5D-418A-BF19-85A88102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4140-D943-438C-AF84-5FA0B0BD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8C30-2C8E-4129-83EF-3E39BA86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DAE-821A-4BB9-9F8D-859BB451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4BFC-3F9A-4D84-87C0-14028D55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50AB-F39F-4902-8807-D86E0D46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E89B-83FC-45D7-BD34-C21FF18E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8B19-B634-478D-9F73-4BAE04B9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7B44-BAE4-4775-9212-07DE7F48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6A061-E968-4B8B-B829-BEDAA363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FB12-76E8-432A-BF2F-B1C1343F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722F-26DF-4B08-BAFC-FCBDAA9B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0625-2CE4-4186-A84F-21216AC9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58A1A-40A5-4A8A-86CC-6FC08D79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BC2-B262-4482-897A-0B590CC7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65731-DAA0-4824-A1C9-9FA4562B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B3E60-BD49-47D5-A959-2CC06A47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7B31-5378-4F5F-9AA4-E5006CAA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7A938-AA73-4740-8F62-4A9B9638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033E-5571-4427-88C2-AE074B48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6D0B3-D068-4CE4-B130-755151A7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635CD-B0C1-4F53-8F9E-49560498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62F64-C8FA-47A2-96F1-A0992273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54FC7-D827-4881-888C-84BF21EF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4EB19-32A2-4AD0-86DC-7816CAE0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6294-3E88-48AE-94C7-CBE5EC49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56A2B-5FE2-4B94-A2FB-70B20FFF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7B304-157A-4061-8181-43088C88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7ADDE-AD1E-48C9-BF99-8A95FB45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0138D-FDB8-4D6E-AB7C-FC0CD247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303CF-D336-4E74-B824-9D7B91DB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84462-DD6A-4764-AE54-3B5B5A25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59A0E-CC23-4CD1-912E-97209A8A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C9727-D0CB-4222-8D7A-BC2A3CFB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0BC7E-6D6B-4FE2-81E1-47245DD3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3763E-50D8-4EFF-BA0A-C931F593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1A6-74FA-428C-9451-BB2DFB79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2D580-0EAB-4442-8940-86F5ABA8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653DD-3A77-4558-9EA2-7AAB6F96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937B6-7CDB-400F-B918-BB8F2BD2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EA8F5-5C34-4547-B05A-821F6A7A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3B8B9-670B-47B2-A0E4-44C268B2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844C9-4C0D-426E-B4C7-DA925941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7B5E4-6257-406D-87C7-D716DD44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1902C-1878-42DE-9D49-1954AF55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E7ABC-59CD-4FCC-9855-6834C990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B406-FB98-45EC-8DAA-F82D9662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F63-ED05-4EE2-949B-8FD384E1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1C3C9-F3E7-4132-A62D-1BFDFF85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1736B-9707-4D48-ABA9-3F09342D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FDC09-6BA9-40CD-8B3D-E138408A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906BB-8036-4746-94B6-D7F65AEB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2F351-0FE3-4916-A25E-9F5D9F83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7F6C6-59AF-4431-9793-B7F81F20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9FDE0-72CB-441C-84CB-68A67A22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F4E49-D09F-4F43-A74A-B2C2446C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3463F-DEAA-4DF6-BBB1-5DC0B3FC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6613B-3527-46E4-A779-3EF89A9F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426-A8FB-4A74-8C24-FC2FB001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DDE14-7B9E-4113-AB36-149C0705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607CC-3119-4334-8E6E-9032115A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3E475-FC61-4A34-B762-74E3FB85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F6E52-A9DD-4CEF-998F-17B8A38A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D2B47-0DBB-4642-A92F-86D4F921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261AA-167A-4145-8A18-17407551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8A054-B12E-4451-A00C-0A40E0C9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828F0-B5C7-4C85-9840-E0794B75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146B1-C9C6-4364-8A4B-F032C88A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54624-65B5-4EC8-8F8B-F99D7564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06A3-1F8D-4075-95B3-5A29AE39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7C075-4888-46A2-8A15-788F56F0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C8075-9D29-481B-BEE3-1EFBAA96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2C734-9ADE-4A12-B228-FE68BDDC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552B4-468B-41A1-B2FC-3AC399E9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6D1C5-0B5B-4F09-B295-CD4D3F83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FA1-905D-467B-B675-5D98B9E4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92ED-46B6-40AB-B837-AE73B6EDE91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F26C-B82A-4D05-90AF-FEAE5E19FF2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05D7-C352-47C7-83FA-69E6150FB0B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6EFD-BD26-4C72-968C-E2956C71F7B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4F35-2A58-4AC3-940C-6062D4AC714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E79F-6786-40DD-9F3A-86D154C07BE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AD72-8F5A-4452-BADF-43867677E41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Работа группы </a:t>
            </a: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«Делимость без границ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7800" y="607176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полнили учащиеся 9 класс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C:\Documents and Settings\Admin\Рабочий стол\ИКТО\Рисунки\47114916-29f8-5b53-7c19-908055d813b6.jpeg"/>
          <p:cNvPicPr/>
          <p:nvPr/>
        </p:nvPicPr>
        <p:blipFill>
          <a:blip r:embed="rId1"/>
          <a:stretch/>
        </p:blipFill>
        <p:spPr>
          <a:xfrm>
            <a:off x="1357200" y="2357280"/>
            <a:ext cx="3575160" cy="360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C:\Documents and Settings\Admin\Рабочий стол\ИКТО\Рисунки\math_clip_art_02.jpg"/>
          <p:cNvPicPr/>
          <p:nvPr/>
        </p:nvPicPr>
        <p:blipFill>
          <a:blip r:embed="rId2"/>
          <a:stretch/>
        </p:blipFill>
        <p:spPr>
          <a:xfrm rot="405600">
            <a:off x="5928840" y="2000160"/>
            <a:ext cx="29527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274320"/>
            <a:ext cx="79293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Corbel"/>
              </a:rPr>
              <a:t>Цель работы:</a:t>
            </a:r>
            <a:br>
              <a:rPr sz="4300"/>
            </a:b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Ответить на вопрос, «Применение метода математической индукции: нужно оно нам или нет?»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142640" y="2428560"/>
            <a:ext cx="74977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сширение знаний учащихся по изучению темы « Метод математической индукции» в процессе выяснения вопросов делимости выражений на натуральные числ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звитие речи, мышления и способности наблюдать и делать вывод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2" descr="C:\Documents and Settings\Admin\Рабочий стол\ИКТО\Рисунки\images.jpeg"/>
          <p:cNvPicPr/>
          <p:nvPr/>
        </p:nvPicPr>
        <p:blipFill>
          <a:blip r:embed="rId1"/>
          <a:stretch/>
        </p:blipFill>
        <p:spPr>
          <a:xfrm>
            <a:off x="1500120" y="4786200"/>
            <a:ext cx="1657440" cy="1704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Documents and Settings\Admin\Рабочий стол\ИКТО\Рисунки\urok_m.jpg"/>
          <p:cNvPicPr/>
          <p:nvPr/>
        </p:nvPicPr>
        <p:blipFill>
          <a:blip r:embed="rId2"/>
          <a:stretch/>
        </p:blipFill>
        <p:spPr>
          <a:xfrm>
            <a:off x="7929720" y="0"/>
            <a:ext cx="121428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Метод математической индукции – один из наиболее эффективных методов доказательства математических гипотез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Например, с помощью этого метода можно доказывать различные утверждения, касающиеся делимости натуральных чисе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C:\Documents and Settings\Admin\Рабочий стол\ИКТО\Рисунки\image0011.png"/>
          <p:cNvPicPr/>
          <p:nvPr/>
        </p:nvPicPr>
        <p:blipFill>
          <a:blip r:embed="rId1"/>
          <a:stretch/>
        </p:blipFill>
        <p:spPr>
          <a:xfrm>
            <a:off x="5929200" y="4962600"/>
            <a:ext cx="2000520" cy="1720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Admin\Рабочий стол\ИКТО\Рисунки\euclid-2.gif"/>
          <p:cNvPicPr/>
          <p:nvPr/>
        </p:nvPicPr>
        <p:blipFill>
          <a:blip r:embed="rId2"/>
          <a:stretch/>
        </p:blipFill>
        <p:spPr>
          <a:xfrm>
            <a:off x="1714680" y="142920"/>
            <a:ext cx="19285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7" descr="C:\Documents and Settings\Admin\Рабочий стол\ИКТО\Рисунки\vhqnkxedasnypq-hsldooke.jpg"/>
          <p:cNvPicPr/>
          <p:nvPr/>
        </p:nvPicPr>
        <p:blipFill>
          <a:blip r:embed="rId1"/>
          <a:stretch/>
        </p:blipFill>
        <p:spPr>
          <a:xfrm>
            <a:off x="0" y="5813280"/>
            <a:ext cx="1379520" cy="10447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3920" y="277920"/>
            <a:ext cx="7472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Задача 1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28800" y="981000"/>
            <a:ext cx="80359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оказать, что сумма кубов трех последовательных натуральных чисел делится на 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м нужно доказать, чт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любом натуральном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верим прежде всего, справедливо ли утверждение при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=1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меем ,                               ,             , следовательно, при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=1 утверждение верн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едположим, что оно верно при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т.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окажем, что тогда оно верно и при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+1. В самом деле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скольку каждое слагаемое полученной суммы делится на 9 (первое слагаемое – по предположению индукции, второе – как содержащее множитель 9), то и сумма делится на 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лучаем, что утверждение верно при всех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4000680" y="1785960"/>
                <a:ext cx="2741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⋮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3"/>
              <p:cNvSpPr txBox="1"/>
              <p:nvPr/>
            </p:nvSpPr>
            <p:spPr>
              <a:xfrm>
                <a:off x="2000160" y="2786040"/>
                <a:ext cx="1511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3643200" y="2786040"/>
                <a:ext cx="574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⋮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5786280" y="3286080"/>
                <a:ext cx="2376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t xml:space="preserve">⋮</m:t>
                    </m:r>
                    <m:r>
                      <m:t xml:space="preserve"> 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6"/>
              <p:cNvSpPr txBox="1"/>
              <p:nvPr/>
            </p:nvSpPr>
            <p:spPr>
              <a:xfrm>
                <a:off x="1357200" y="4357800"/>
                <a:ext cx="676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C:\Documents and Settings\Admin\Рабочий стол\ИКТО\Рисунки\MathInitiatives.gif"/>
          <p:cNvPicPr/>
          <p:nvPr/>
        </p:nvPicPr>
        <p:blipFill>
          <a:blip r:embed="rId1"/>
          <a:stretch/>
        </p:blipFill>
        <p:spPr>
          <a:xfrm>
            <a:off x="7286760" y="214200"/>
            <a:ext cx="1712880" cy="13622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Задача 2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Доказать, что число   7</a:t>
            </a:r>
            <a:r>
              <a:rPr b="1" lang="en-US" sz="22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1" lang="ru-RU" sz="2200" spc="-1" strike="noStrike" baseline="30000">
                <a:solidFill>
                  <a:srgbClr val="000000"/>
                </a:solidFill>
                <a:latin typeface="Corbel"/>
              </a:rPr>
              <a:t>+1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+8</a:t>
            </a:r>
            <a:r>
              <a:rPr b="1" lang="ru-RU" sz="2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1" lang="ru-RU" sz="2200" spc="-1" strike="noStrike" baseline="30000">
                <a:solidFill>
                  <a:srgbClr val="000000"/>
                </a:solidFill>
                <a:latin typeface="Corbel"/>
              </a:rPr>
              <a:t>-1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 делится на  19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orbel"/>
              </a:rPr>
              <a:t>Доказательство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)  если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1    ,  то 7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57,   а   57 делится на   19.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)  предположим, что  утверждение верно при некотором натуральном   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, т.е. число   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делится на  19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кажем верность утверждения для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1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1)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(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1)-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7*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64*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7(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+57*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к как каждое слагаемое полученной суммы делится на  19, то  и  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+1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кже делится на  19.  Утверждение доказан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обные задачи на делимость натуральных чисел часто предлагаются на математических олимпиадах разного уровня. Использование метода математической индукции значительно упрощает решение таких задач. Значит с уверенностью можно сказать, что применение метода математической индукции необходим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C:\Documents and Settings\Admin\Рабочий стол\ИКТО\Рисунки\MatemImena.jpg"/>
          <p:cNvPicPr/>
          <p:nvPr/>
        </p:nvPicPr>
        <p:blipFill>
          <a:blip r:embed="rId1"/>
          <a:stretch/>
        </p:blipFill>
        <p:spPr>
          <a:xfrm>
            <a:off x="4467240" y="4495680"/>
            <a:ext cx="46767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C:\Documents and Settings\Admin\Рабочий стол\ИКТО\Рисунки\Книги-и-цены-в-математической-задачке.jpg"/>
          <p:cNvPicPr/>
          <p:nvPr/>
        </p:nvPicPr>
        <p:blipFill>
          <a:blip r:embed="rId1"/>
          <a:stretch/>
        </p:blipFill>
        <p:spPr>
          <a:xfrm>
            <a:off x="7072200" y="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итератур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учно – практический журна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 Математика для школьников» №1, 2004г. М: ООО «Школьная пресса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.В. Стратилатов «Дополнительные главы по курсу математики» Факультативный курс для учащихся 9кл. М.: Просвещение, 1974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09:36:22Z</dcterms:created>
  <dc:creator>Admin</dc:creator>
  <dc:description/>
  <dc:language>en-US</dc:language>
  <cp:lastModifiedBy>Admin</cp:lastModifiedBy>
  <dcterms:modified xsi:type="dcterms:W3CDTF">2011-05-15T14:37:09Z</dcterms:modified>
  <cp:revision>14</cp:revision>
  <dc:subject/>
  <dc:title>Слайд 1</dc:title>
</cp:coreProperties>
</file>